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938-1FE3-4DC3-9CE0-E52E376C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BDA-8003-4C7F-94C8-155F10FF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7BB-60B5-4C4E-81C1-A96B66BA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83A-D325-4617-8B2E-069C9DC5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F40-0D16-473B-BBE3-8A453BD6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BDE-FE86-41A7-B471-C81B8066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A4F-EC5D-437D-BDF3-4D8077A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953-9B57-43C0-9D1D-D9DD82B2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903-2B9C-4390-A6A0-D49DAC27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A8E-E5FA-4035-9C01-114159A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79A-A2B6-491A-BA8A-BA89709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C8C-E6A1-4737-9ACE-3993DA5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8475-7FBC-4E10-B86C-5C9CB74A5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62560" y="0"/>
            <a:ext cx="3781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5334120" cy="89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عنا هو اللـه ، فاعلموا أي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أمم وانهزموا ، لأن الله معنا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سمعوا الى أقصى الأرض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يها الأقوياء انهزموا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أنكم وإن قويتم ، أيضا ستغلبون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..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أي مشورة عقدتم يبددها الرب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..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أي قول قلتموه لا يثبت فيكم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525780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نخاف خوفكم ولا نضطرب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نما نقدس الرب إلهنا ونحب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إذا توكلت عليه كان لي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اسة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سأتوكل عليه وأخلص ب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أنذا والأبناء الذين أعطانيهم اللـ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ها الشعب السالك في الظلمة ، أبصر نورا عظيما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876920" cy="76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ـحن السالكين في بقعة الـموت وظلاله يشرقُ علينا نورا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أنه قد ولد لنا ولدٌ ، وأعطي لنا إبنٌ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رت رئاسته على كتف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لا حــد لسلامه .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دعى اسـمه رسول الـمشورة العظيمة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3905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5638680" cy="85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شيراً عـجيبـاً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لهاً قوياً مسلَّطاً ، رئيس السلام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با الدهر الآتـي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المجـد للآب والإبـن والروح القدس ، لأن اللـه معنا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الآن وكل أوان والى دهر الداهرين ، آمين ، لأن اللـه معنا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نا هو اللـه ، فاعلموا أيها الأمم وانهزموا ، لأن اللـه معنا</a:t>
            </a: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.</a:t>
            </a:r>
            <a:r>
              <a:rPr b="0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7:42:55Z</dcterms:created>
  <dc:creator>SUZANNE.MD</dc:creator>
  <dc:description/>
  <dc:language>en-US</dc:language>
  <cp:lastModifiedBy>HANI SAFI</cp:lastModifiedBy>
  <dcterms:modified xsi:type="dcterms:W3CDTF">2003-03-14T12:30:32Z</dcterms:modified>
  <cp:revision>2</cp:revision>
  <dc:subject/>
  <dc:title>PowerPoint Presentation</dc:title>
</cp:coreProperties>
</file>